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5AE-A9D7-45DC-87AC-479D26AE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AB4-008C-40C0-953F-28072FE7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21C-EF3A-469C-BFA8-FCDEEDD3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D74-6CF7-4856-9A0F-8DD3EA8F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E51-8FCA-43B7-A9C1-2ECD8D1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CA0-B569-4A0B-849B-0BA249D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815-E926-4EF4-9269-F4EA202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DA7-37E2-458A-8247-EF3D385A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A8D-AA98-47B2-992E-930677D2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23A-6635-45DD-956B-AF4C01A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62A-95BE-49B2-9B77-CE25552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C28-1096-46BE-BD64-DD593A7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3F96-542C-4366-B74D-1F987F28F3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RNDONE.WAV" TargetMode="External"/><Relationship Id="rId4" Type="http://schemas.microsoft.com/office/2007/relationships/media" Target="file:///tmp/home/.config/libreoffice/4/user/gallery/RNDONE.WAV" TargetMode="External"/><Relationship Id="rId5" Type="http://schemas.openxmlformats.org/officeDocument/2006/relationships/image" Target="../media/image4.png"/><Relationship Id="rId6" Type="http://schemas.openxmlformats.org/officeDocument/2006/relationships/audio" Target="file:///tmp/home/.config/libreoffice/4/user/gallery/FADEAPPL.WAV" TargetMode="External"/><Relationship Id="rId7" Type="http://schemas.microsoft.com/office/2007/relationships/media" Target="file:///tmp/home/.config/libreoffice/4/user/gallery/FADEAPPL.WAV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ILLAPIR.WAV" TargetMode="External"/><Relationship Id="rId3" Type="http://schemas.microsoft.com/office/2007/relationships/media" Target="file:///tmp/home/.config/libreoffice/4/user/gallery/WILLAPIR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62.xml"/><Relationship Id="rId27" Type="http://schemas.openxmlformats.org/officeDocument/2006/relationships/slide" Target="slide64.xml"/><Relationship Id="rId28" Type="http://schemas.openxmlformats.org/officeDocument/2006/relationships/slide" Target="slide66.xml"/><Relationship Id="rId29" Type="http://schemas.openxmlformats.org/officeDocument/2006/relationships/slide" Target="slide68.xml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C30-F712-4109-A9AE-1FC5A5F58F0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60020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the cell membran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FB9-6FAA-47D5-939E-A4B30C513B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219320"/>
            <a:ext cx="693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auses the concentration of molecules to be the same throughout a spa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9E6-56F2-4499-81AE-36C32F4CC8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7524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diffusion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9A5-2A94-42A5-A787-5580B0C9A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1060560"/>
            <a:ext cx="693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ate that exists whenever molecular concentration is the same throughout a spa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413-0719-48CF-808A-3977FDA2D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equilibrium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40D-93AA-483D-8FE6-1AE3391C0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279440"/>
            <a:ext cx="6476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en the concentration of solutes inside &amp; outside the cells is equa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67E-465C-4240-8507-9C56AE3DA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676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isotonic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6F1-2EB0-478F-8526-33AED4FDC4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1219320"/>
            <a:ext cx="693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Organelle in paramecia that pumps out excess wat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5E4-B0D0-43FD-BC8F-D13DBB4B93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1905120"/>
            <a:ext cx="579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a contractile vacuol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992-C19B-4543-B6A8-D2DA1597E3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4600" y="22860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Universal Solven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0FA-EA44-41B0-922E-87FB3B10B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26668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7FA-EA1D-4A8D-B5F5-2BCD1B0D30E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05740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water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481-57B5-4CF5-88DF-BC44236E5D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76520" y="1281240"/>
            <a:ext cx="5790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roperty that makes water such a good solven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B7-E121-4A0F-B849-523E18EA1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133720"/>
            <a:ext cx="54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olarit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144-0451-4A69-9CDA-709BC15A3E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1219320"/>
            <a:ext cx="7238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Solute concentration that causes water to move into the cel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7FA-36CC-4FFF-BB85-60B9A22952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7524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ypotonic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F63-E2BF-4E1F-BF26-4037A0A785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137160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Direction water moves in passive transpor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104-428C-48CA-A791-042D38B04D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4479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down the concentration gradient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453-373F-40B8-BF7A-AC32A7C8D5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91440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Prefix that refers to a high solute concentration &amp; low water concentration outside the c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82E-18DD-4898-8E4F-FE0A6F93A8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yper-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472-3138-4745-BEC7-21E78DC73F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914400"/>
            <a:ext cx="6934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Facilitated diffusion is another example of this type of transpor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FD0-02D5-4A7D-B76F-981CFB3C27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2860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Osmosi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E12-D618-4F02-86D1-6636E3BB8FE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60020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assiv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56D-1F3A-4F79-B5D7-AC1BA7F387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1600200"/>
            <a:ext cx="632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Proteins that aid facilitated diffusio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B67-A8AD-484D-BF16-7A4DA96809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16765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are carrier protein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954-FBB9-4027-88B9-5516097688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914400"/>
            <a:ext cx="7010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Direction across the cell membrane that carrier proteins allow movemen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ADB-1BC3-4EA4-B262-451219BE5D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523880"/>
            <a:ext cx="66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igher concentration to lower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785-4422-4F2F-A8C9-F58BA3F6DD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447920"/>
            <a:ext cx="701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his happens to a carrier molecule when it binds with the molecule it’s mov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AB3-5A63-4FCB-B4E9-8276B10B11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182880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change shape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6CB-E67B-4F1C-92FE-6D68367273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990720"/>
            <a:ext cx="6400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Type of molecules that move by facilitated diffusio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C7B-B144-4978-80A0-92C1A8967E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447920"/>
            <a:ext cx="7315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What are large, insoluble molecule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BD1-98A0-4D02-956D-D815BC22CE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16002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Simplest type of passive transpor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20D-E7A2-45AD-8D7C-5A8078F630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213372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Facilitated Diffusio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D26-464C-4412-AB7A-F6F2F732919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67652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diffusion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CAD-FC32-4DBE-8FBA-6CE0A3AD0A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91440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Direction molecules diffuse across a cell membran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944-ACAF-4C8A-949A-2E584B22C8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52388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igh to low concentration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71F-81FA-4684-8979-290E8A3CCA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9528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ater movement across a cell membran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C0A-42DB-4989-983C-FB6B0608C5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752480"/>
            <a:ext cx="60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osmosis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FC0-9AFB-474C-B08A-D6CF6AE268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5280" y="1066680"/>
            <a:ext cx="64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Point where molecules continue to move without a concentration gradi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141-4E9D-4081-A10B-DC03D1E5628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447920"/>
            <a:ext cx="678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equilibrium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59A-FBD3-479B-9CAC-C396C38D23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99072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ater pressure exerted against plant cell wall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48B-9363-4580-99FA-28253B2E8C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60020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turgor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332-D2AB-4698-B165-3D81E94AB43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185840"/>
            <a:ext cx="655308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Required by cells to move materials by active transpor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4A2-D3C3-4180-8DFE-1BC02E0E923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2209680"/>
            <a:ext cx="510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Passive Transport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DD5-54EF-493E-B812-23F193120AF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14479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energy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BD7-AB29-4BFF-89F1-D4D169F7833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600200"/>
            <a:ext cx="7467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irection of Movement across a membrane during active transpor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E22-51D3-4CE0-8AC3-66FA5D641E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low to high concentration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FA5-E18E-46C9-B0A8-679FF5EFFCE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175248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ct as cell membrane “pumps”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529-4C51-4427-8A35-B8F882DBE16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44792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What are carrier proteins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082-BBD9-4F53-8A66-1A8B95146C9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600200"/>
            <a:ext cx="716292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Membrane pumping system found in animal cell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E3B-0326-4164-928E-FEBCBCF2CBD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388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the sodium-potassium pump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855-B856-47D9-98FE-B8625899728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3B0-4976-4656-A04F-FCA45CDDE1F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8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1295280"/>
            <a:ext cx="7543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rocess where cells “drink” droplets of liquid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23D-0C52-4E89-A25C-8447E40EFBF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52388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inocytosi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545-290D-462E-A455-EB063828EC6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81080" y="1981080"/>
            <a:ext cx="556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438280"/>
            <a:ext cx="510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Active Transpor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615-D96D-47BC-B4E5-F30BF2F8868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838080"/>
            <a:ext cx="6400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Condition of the cytosol if the outside of the cell is hypotoni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FBA-6E27-4709-AB2E-A044B9B930C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21337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hypertonic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8BB-B2E6-4DBA-A53C-F86C7FC90AA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990720"/>
            <a:ext cx="7010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 multicellular organism’s response to being in a hypotonic solu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EB1-104F-4701-BB17-67F1F8FD91D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7524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umping out solute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0F9-03BF-458F-9E45-ECBA1961308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95280" y="1143000"/>
            <a:ext cx="6324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irection of water movement when the solute concentration outside the cell is lower than insid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772-92FF-4D6D-903F-6194B7D7F25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75248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water moving into the cell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2B9-D58E-4260-995A-419B82CD448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1066680"/>
            <a:ext cx="7010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Molecules soluble in this can diffuse through the cell membran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3F8-AE7B-4173-8F4C-BC9875C358B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7524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are lipid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AA0-88B2-48FD-A7A0-FD2F6632F98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52388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ondition caused whenever plant cells lose turgor pressure and wil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0ED-0EE4-4D24-A616-495C4EB1C86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75248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is plasmolysis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6E9-2C76-48AA-BEE2-D17D54FFD1A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38280" y="2590920"/>
            <a:ext cx="48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Solution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B59-CE25-49C2-857A-1573F7731BB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057400" y="2286000"/>
            <a:ext cx="4724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2AA-4B5D-4A7E-9D28-2E899675DF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28195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E29-CCC4-47C2-870B-2034E5DBBCD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28800" y="220968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Kinetic energy of molecul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F19-1628-49F1-829B-C5FB885E08D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432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600200"/>
            <a:ext cx="601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is the energy for passive transport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60F-7904-4B27-82B4-E72A958B52A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32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789-F82F-4970-B49E-86ABBED28B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92880" y="1295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92880" y="2438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92880" y="3581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92880" y="4724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92880" y="5867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616760" y="1292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62612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61676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61676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161676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140640" y="127944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140640" y="243828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131280" y="356544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14064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314064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655160" y="1292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465516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466488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466488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66488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6198120" y="1292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618876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619812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619812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198840" y="5864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7722720" y="12924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7722360" y="2435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6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712640" y="3578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7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722360" y="4721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7722360" y="5864400"/>
            <a:ext cx="133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7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Homeost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80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smo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Facilitated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Diffu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049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Passive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04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Active</a:t>
            </a:r>
            <a:br>
              <a:rPr sz="1800"/>
            </a:br>
            <a:r>
              <a:rPr b="1" lang="en-US" sz="1800" spc="-1" strike="noStrike">
                <a:solidFill>
                  <a:srgbClr val="ffff66"/>
                </a:solidFill>
                <a:latin typeface="Comic Sans MS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380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914400"/>
            <a:ext cx="73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Helps an organism maintain  homeostasis by controlling what enters or leaves the c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B50-D00A-4D0C-9EAB-EE8AAC93A1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rrogers</cp:lastModifiedBy>
  <dcterms:modified xsi:type="dcterms:W3CDTF">2008-02-19T16:32:48Z</dcterms:modified>
  <cp:revision>50</cp:revision>
  <dc:subject/>
  <dc:title>No Slide Title</dc:title>
</cp:coreProperties>
</file>